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C77-3C15-4378-82CF-5EC78106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9F9-AF17-49CB-A9C9-8692A1DA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35B-FEE1-471D-ABC5-412F54E9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CAF-1F5D-4A9A-ABB2-38EC275D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321-A4CD-44BB-8A2C-85D33ABE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1F7-F861-4B5C-A08E-AF51A1F8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C39E-A382-42EB-8ADD-4C119524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407-1A2D-4E2B-B4C8-5E53B038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079-794E-461D-B049-84D46551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807-19C7-4BA2-8797-0AA733F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354-ECF5-4737-8F10-4847506C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2D8-A326-494B-AA2C-28E51B85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E8CDB-5C17-4290-B5DF-B6FA0314FF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225BB-7C05-457E-B289-E8318FD86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What are the two things that can happen at a convergent boundary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What is the effect of two continental plates colliding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ental vs. Ocea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8028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Calibri"/>
              </a:rPr>
              <a:t>When a continental plate and oceanic plate collide, the oceanic plate subducts under the continental plate because it is more dense.   This subduction creates volcanic mountains on the land and a trench in the ocean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rcRect l="0" t="0" r="0" b="18749"/>
          <a:stretch/>
        </p:blipFill>
        <p:spPr>
          <a:xfrm>
            <a:off x="5956200" y="0"/>
            <a:ext cx="3187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happens when a continental plate and oceanic plate collid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ich plate is more dens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eanic vs. Ocea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2496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When two oceanic plates collide, the more dense plate will subduct under the less dense plate.  This subduction creates a trench in ocean floor and a volcanic island arc.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happens when two oceanic plates collid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225960"/>
            <a:ext cx="822960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Is this a diagram of subduction or plate collision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416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225960"/>
            <a:ext cx="822960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What types of plates are involved in this convergent boundary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416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3225960"/>
            <a:ext cx="822960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What are the effects of this type of subduction? (there are 2)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416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y does the oceanic plate subduct under the continental plate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Predict what will happen when a continental plate and oceanic plate collide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put (notes on convergent bounda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Guided Practice (team wo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ndependent Practice (hand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03148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Is this a diagram of subduction or plate collision?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0" r="0" b="44757"/>
          <a:stretch/>
        </p:blipFill>
        <p:spPr>
          <a:xfrm>
            <a:off x="457200" y="4614840"/>
            <a:ext cx="86374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3148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types of plates are involved in this convergent boundary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rcRect l="0" t="0" r="0" b="44757"/>
          <a:stretch/>
        </p:blipFill>
        <p:spPr>
          <a:xfrm>
            <a:off x="457200" y="4614840"/>
            <a:ext cx="86374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3148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are the effects of this type of subduction? (there are 2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0" b="44757"/>
          <a:stretch/>
        </p:blipFill>
        <p:spPr>
          <a:xfrm>
            <a:off x="457200" y="4614840"/>
            <a:ext cx="86374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Does this convergent boundary result in plate collision or subductio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273560" y="0"/>
            <a:ext cx="487044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0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What types of plates are involved in this boundary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273560" y="0"/>
            <a:ext cx="487044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What are the effects of this subductio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273560" y="0"/>
            <a:ext cx="487044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11440" y="274320"/>
            <a:ext cx="247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04640" y="507960"/>
            <a:ext cx="4807080" cy="4770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5614920" y="1417680"/>
            <a:ext cx="352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the differences between these two subdu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3 Independen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fter today, you will be able to predict what the effects of a convergent boundary are based on the types of crust involved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Goal 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80% Mastery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cience diplomats are aware of the importance of science to the international community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3 Test Averages Post Redem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3 Convergent Boundaries Class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st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0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alibri"/>
              </a:rPr>
              <a:t>There are two type of crust – oceanic crust and continental crust.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alibri"/>
              </a:rPr>
              <a:t>Oceanic crust is more dense than continental crust.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rcRect l="0" t="0" r="0" b="42064"/>
          <a:stretch/>
        </p:blipFill>
        <p:spPr>
          <a:xfrm>
            <a:off x="3251160" y="927000"/>
            <a:ext cx="2984400" cy="157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2511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Which type of plate is more dense?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ental vs. Contine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When two continental plates collide the crust piles up to form a mountain range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1:34:12Z</dcterms:created>
  <dc:creator>Caroline Roth</dc:creator>
  <dc:description/>
  <dc:language>en-US</dc:language>
  <cp:lastModifiedBy>Caroline Roth</cp:lastModifiedBy>
  <dcterms:modified xsi:type="dcterms:W3CDTF">2010-11-09T12:38:05Z</dcterms:modified>
  <cp:revision>4</cp:revision>
  <dc:subject/>
  <dc:title>Bellringer</dc:title>
</cp:coreProperties>
</file>